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E62-319B-4E7A-B2F9-94708649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1E2-F088-4721-A9F4-FA4160C5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3D5-8C48-4B1D-888B-6D0ED9C0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5C0-1E68-45BE-8377-78986E80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516-81D7-4A9C-80FE-1890295F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3D8-C27A-4C86-AA35-4B4E35FB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1BF-DD5F-46FA-A7FD-C34DCEA5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352-0D9F-43BA-B8BD-2BA6C9C0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FCB-6922-45A8-8A3C-B2E2D5B1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79C-B374-4379-8F85-FA01A73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800-11A3-45F5-8B53-A2D8FA7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87D-2E3F-4111-9E97-48FB9A77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F375-B578-4A19-AB24-7304DCD7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1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Stages of Learning and method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49360"/>
            <a:ext cx="828036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ges of Lea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video clips and make notes on each stage of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692280"/>
            <a:ext cx="8280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92280"/>
            <a:ext cx="8280360" cy="56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s of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ive characteristics you would expect to see at each of the following s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your course notes to help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4936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0560" y="54936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92280"/>
            <a:ext cx="828036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e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ning your training how can knowing your stage of learning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tage of learning you are at effect the types of practices you will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ge of learning are you at in badmin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62064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of practice/Stages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dow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3716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21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4292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87640" y="3212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3429000"/>
            <a:ext cx="309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tition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 without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 with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 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213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227664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084720" y="24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2492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162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nomous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2637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e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85264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2000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620640"/>
            <a:ext cx="8353440" cy="71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: Wednesday 1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n activity and a skill or techn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Selec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following approaches. Describe how you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about your chosen skill or technique using this appro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deration of qual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Discuss the results of the information gathered in Par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Make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to how you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l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was affect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utline the programme of work that you followed to develop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in this skill or technique. Explain why this programme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was appropri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Explain why it is important to monitor and review your programme of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maddenp1</cp:lastModifiedBy>
  <dcterms:modified xsi:type="dcterms:W3CDTF">2011-01-11T09:10:00Z</dcterms:modified>
  <cp:revision>15</cp:revision>
  <dc:subject/>
  <dc:title>Slide 1</dc:title>
</cp:coreProperties>
</file>